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448-5DBF-4539-B021-9796814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CF6-3B98-4AB6-A5A9-6A98E0D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4B1-A186-4D75-8FEB-53B890D7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E34-8266-4274-A25D-DAE3C2CC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146-0627-48F8-AF09-33BEF517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065-1AA1-4952-8D20-583B417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EDE-02B6-412F-A7E6-6F24E53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870-AE24-4B45-9BE4-D770746E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A4A-83DA-417F-91F2-322503F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FD9-AE76-49F9-944A-EA8E2B3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203-0771-4956-99D1-5225F24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8A0-F33F-4275-8F10-14D9AD8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D41-4FB8-40D8-BECD-DC25A6CD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7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al es un desayuno popular en Nicaragu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45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 comida en otras par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46; en voz 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47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147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47 (1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QUIZ  DUE MONDAY PD 3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PassCode: ASD4003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CONVERSATIO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rensacion Self-Check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0204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9:09:20Z</dcterms:created>
  <dc:creator>Helen Zumaeta</dc:creator>
  <dc:description/>
  <dc:language>en-US</dc:language>
  <cp:lastModifiedBy>Helen Zumaeta</cp:lastModifiedBy>
  <dcterms:modified xsi:type="dcterms:W3CDTF">2011-04-07T19:09:54Z</dcterms:modified>
  <cp:revision>2</cp:revision>
  <dc:subject/>
  <dc:title>Me llamo ________ Clase 8IM La fecha es 7 de abril del 2011</dc:title>
</cp:coreProperties>
</file>